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CE9-8FD2-42BC-8962-52693157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1A0-280E-43DD-ADB7-E863F850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C86-F362-439F-BB64-B093A7B9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FB9-E0D4-4EBE-99D3-585B42CD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9C4-021C-4C8C-800E-ABF8807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7E97-AAD3-4C2A-B2A3-03D5159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635E-501F-4F13-A142-A7AA363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3F91-DEC4-4175-8B11-101098EF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9E5C-8116-40D8-8888-0314BC8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8EF1-E468-4516-80B0-EA58EEED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7A8E-8815-455F-8194-FDD6035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720-5B5E-4039-AC03-9F7C18B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4A2E-9689-4094-A54A-867FFC0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DACB-E7C0-46D3-9877-52A8C2C9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81A0-D0B6-45B5-818D-E38FA73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3EA7-2F89-4808-B82A-96DE9CA6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7DE-4824-4A44-BBBC-285383C7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D98-C9B5-449C-908F-122F7854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484-5DFD-4E92-9D46-FD82724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30F-DA29-43CD-B986-027E5EFF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046-6CF9-4E7F-AE57-2109AB5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0A6-C3A7-4292-ADA7-B5267A5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E43-D571-4C54-8871-BE339BA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19F-058F-4EF2-A281-695C8FA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5E8B-35EB-44ED-8BA0-02D38C64E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D2A1-D00B-4E0B-8496-93F03E491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arkdiver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4114800" y="3200400"/>
            <a:ext cx="343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Cell Membra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the structure and function of the plasma membrane is similar to that of a steel shark cage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e function important to the man in the shark cage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is this function important to the cel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380988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919" h="21600">
                <a:moveTo>
                  <a:pt x="124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919" h="21600">
                <a:moveTo>
                  <a:pt x="9883" y="8224"/>
                </a:moveTo>
                <a:lnTo>
                  <a:pt x="13748" y="8224"/>
                </a:lnTo>
                <a:lnTo>
                  <a:pt x="13748" y="15221"/>
                </a:lnTo>
                <a:lnTo>
                  <a:pt x="15036" y="15221"/>
                </a:lnTo>
                <a:lnTo>
                  <a:pt x="15036" y="16144"/>
                </a:lnTo>
                <a:lnTo>
                  <a:pt x="9883" y="16144"/>
                </a:lnTo>
                <a:lnTo>
                  <a:pt x="9883" y="15221"/>
                </a:lnTo>
                <a:lnTo>
                  <a:pt x="11171" y="15221"/>
                </a:lnTo>
                <a:lnTo>
                  <a:pt x="11171" y="9129"/>
                </a:lnTo>
                <a:lnTo>
                  <a:pt x="9883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27:50Z</dcterms:created>
  <dc:creator>PritchaJ</dc:creator>
  <dc:description/>
  <dc:language>en-US</dc:language>
  <cp:lastModifiedBy>PritchaJ</cp:lastModifiedBy>
  <dcterms:modified xsi:type="dcterms:W3CDTF">2011-06-01T15:30:45Z</dcterms:modified>
  <cp:revision>1</cp:revision>
  <dc:subject/>
  <dc:title>Slide 1</dc:title>
</cp:coreProperties>
</file>